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F30-DCA3-4074-9762-3C4CA376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653-9BBE-4789-B179-D29C6FC3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417-F918-4B41-B21F-E098D834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743-6722-4C5A-B139-792B2069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3952-F2AB-4B79-90DA-BF6F4EF9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C71D-BFE9-41D6-8933-7E277FEC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B355-19E3-4884-9635-F572C7F4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D8B1-BD79-4D7E-9D40-F00BBE23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B326-BD51-4567-9E95-2836F006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9E91-F4D1-44CB-B3C4-5FB4A96F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8B76-9829-42C5-82CA-D9D3F7A9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5B3-9BD7-4BEA-844F-0650E0E7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42F1-9284-4575-9C97-FBDB818B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2E2A-093A-42D5-92B5-7013646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24C8-8E0C-4B54-A76B-01DDF93B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E7CB-6451-49EB-AF4C-4AFF40CC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8C78-BDCE-4569-AF35-30D48DD9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DF8-6837-4800-AA2F-E6CE3D05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B44-D7E4-4CCF-B6C2-FBBDC80E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0C4-F9B9-4D65-8820-53B50A68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7DA-D4F8-441F-BFCD-FB54FA1F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57C-C7B1-4F68-9B7A-8890A92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107-3672-442C-BC0C-2387243B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5F4-3724-4F67-9A40-59C6EA66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843A-61F2-4D2F-8F82-41880369C2E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D1FF-FA97-427D-9643-02229A8A77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DOA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bt:Ow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endor:sel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redit:p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nt:coer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stomer:refu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Answer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Vendor:sel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Freewrit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you will be stranded on a deserted island in the middle of the ocean for ten years. You will be allowed to bring one each of the following: book, movie, cd, food, drink, piece of clothing, and one miscellaneous item. List the one item you would bring in each category, and explain why you chos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Vocabulary practi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 a synonym for 5 of the word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KAM-Ch. 22 and 2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urnal Responses-choose 3 to do, one paragraph ea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Ch. 24 and 25 for ho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Great Gatsb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ish scrap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journal respo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ch. 7 for ho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3:14:08Z</dcterms:created>
  <dc:creator>rebecca</dc:creator>
  <dc:description/>
  <dc:language>en-US</dc:language>
  <cp:lastModifiedBy>rebecca</cp:lastModifiedBy>
  <dcterms:modified xsi:type="dcterms:W3CDTF">2009-03-10T19:53:24Z</dcterms:modified>
  <cp:revision>4</cp:revision>
  <dc:subject/>
  <dc:title>DOA</dc:title>
</cp:coreProperties>
</file>